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837-7C25-40E0-922C-D2C15F32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7DC-E1BA-4D63-9313-621CF7F0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229-B662-43EA-9858-F7ABA6CC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07B-259B-4749-8593-81A6F55C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65F9-5383-4E14-9FF0-7E90CCE6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399B-B8C4-4D5F-B9CD-1DA634A4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FFB6-54EB-40D6-A8FD-B2EA344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F44C-4E28-4E23-9C74-02912492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F6B9-6BCB-41D4-AEBB-2EA0DDA8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64F9-ADEE-44C3-9B38-7827423F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9A19-178E-415B-A75A-44CEF90D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D02-74FD-4EA0-89CA-3583DF01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5498-C229-46A0-B907-AE712BE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937E-4E5F-48EB-9EBC-942A9C25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BBCD-73FF-4D80-B925-F76FCDDF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EC7F-7DCC-43F4-91EE-007924B3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39BB-BD48-41CF-918B-DC1093E9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6F8-0763-4A4E-9659-BDCAAAE7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6D6-1199-4243-A2A5-9B939B53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98E-CBCC-4C28-A88A-7EA3DD1B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5C5-1FA0-44BE-96A7-DBB1661C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C43-BBA5-4F10-888B-5B661A21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3C5-1C52-4924-AA5B-1F6D97D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304-C085-4B00-A0A7-0595B71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53BB-8A50-49DF-B9C3-081682DED2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2960-A8CD-457F-AFA3-64960A277D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Иван Вазов</a:t>
            </a:r>
            <a:br>
              <a:rPr sz="66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50г.-1921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ласик на българската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1542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3095640" cy="250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16360" y="1268280"/>
            <a:ext cx="421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ан Минчов Вазов е роден в гр. Сопот на 9 юли 1850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емейството на заможен търгове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аща му настойчиво се стремял да направи сина си търговец, но Иван наследил от майка се Съба поетичен дар и интерес към литератур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024000" cy="2236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35290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17672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-4680" y="2205000"/>
            <a:ext cx="447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аща му го изпраща в Румъния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да помага в търговската канто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чичо си, но Вазов избяг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се озовава сре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ългарските хъшо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Браи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4797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ълго време живее в Пловдив, участва в обществения жив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дактор е на вестниц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ъздава своите известни творби  ”Под игото”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попея  на забравените”, “Хъшове”-  в които опис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ционалноосвободителните борб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436840" cy="3816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2376720" cy="3744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49080" y="189000"/>
            <a:ext cx="58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умъния   Иван Вазов   се среща с   Христо Ботев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г титан в българската литерату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16000" y="49417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ед Освобождението продължава литературната си дейност, за две години е министър на народната прос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дните 20 години от живота си отдава на творчеството си в тихата двуетажна къща в София- сега превърната в муз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5184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345744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2952720" cy="2076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3168720" cy="184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4080" y="3471840"/>
            <a:ext cx="33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аметникът на Незнайния войн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иховете са на Иван Ваз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26720" y="474516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обът на Ваз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6165720"/>
            <a:ext cx="36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одният театър  ”Иван Вазов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818240" cy="361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7800" y="4653000"/>
            <a:ext cx="31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ъща – музей “Иван Вазов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.Соп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3828960" cy="5105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43480" y="589752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ІІІ А клас- октомври 2011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7:39:35Z</dcterms:created>
  <dc:creator>Home</dc:creator>
  <dc:description/>
  <dc:language>en-US</dc:language>
  <cp:lastModifiedBy>Home</cp:lastModifiedBy>
  <dcterms:modified xsi:type="dcterms:W3CDTF">2013-02-17T18:30:29Z</dcterms:modified>
  <cp:revision>3</cp:revision>
  <dc:subject/>
  <dc:title>Иван Вазов</dc:title>
</cp:coreProperties>
</file>